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E27-2366-41AD-9A55-225171AF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D95-8829-4F13-92E2-686ACF1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795-8660-4084-AA06-62AB105B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6B4-944E-41BD-AF0E-49EC7C30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6B2-3176-41C6-AC3A-4C4A9D8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110-FF41-423D-9B22-D280B482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494-8044-45E9-97C7-00439039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D6E-7DB0-4756-AE1A-7EDD1704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7AB-7550-437C-AF9F-AEDC4898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441-CC5B-462B-A37A-910F58F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491-4DB3-4E3E-B52A-27E397C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8BB-DF6A-43A9-86C0-3E8D225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D4B-16EE-4338-A33B-B89AA5BD8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el 4 Pro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ka Cazz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der Junior Varsity und Varsity Fu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ll mannschaft jedes Jahr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ll ist meine Lieblingss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der Tauchen mannschaft jeden Herbst. Tauchen es fle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esse viel Obst und G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se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8128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, Du sch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 zu viel jeden Tag es ist sehr schlecht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 dich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ild Animal animals zone Animals Pictures  Sleeping animals"/>
          <p:cNvPicPr/>
          <p:nvPr/>
        </p:nvPicPr>
        <p:blipFill>
          <a:blip r:embed="rId1"/>
          <a:stretch/>
        </p:blipFill>
        <p:spPr>
          <a:xfrm>
            <a:off x="685800" y="21337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19520" y="472428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dine, du bist fit 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t weil dich tun Gymnastik machst jedes Wochenen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7049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195120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66880" y="2743200"/>
            <a:ext cx="3067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Criminal Minds im Ferhensehen jeden Dienstag und Donner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0194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keine in Hausaufgaben arbeiten weil Ich habe kassier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3300480" cy="317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124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20:28Z</dcterms:created>
  <dc:creator>CUSD220</dc:creator>
  <dc:description/>
  <dc:language>en-US</dc:language>
  <cp:lastModifiedBy>CUSD220</cp:lastModifiedBy>
  <dcterms:modified xsi:type="dcterms:W3CDTF">2012-02-29T14:01:09Z</dcterms:modified>
  <cp:revision>4</cp:revision>
  <dc:subject/>
  <dc:title>Kapitel 4 Projekt</dc:title>
</cp:coreProperties>
</file>